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1A865-C022-4FA3-83A4-841D776CFA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19C57-3C2C-450D-A595-92BAE8B81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7B4C6-AB52-4CF1-A997-1D202CE7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28945-CF4D-4022-8ADC-7564E06206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171C-E8FD-4067-B64E-91C4AC05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FDC8B-AE62-405B-90FD-9480CA1F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DEABD-5196-4534-B1E3-EA41E8FCD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403F6-B995-4F4F-A2C2-E71E95C21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6F248-944E-4702-9BDB-72A02C1B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B4FFB-F4EA-4C32-B984-E24D5E34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6AEB-0EA5-4826-A994-1673D263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3627-2451-4789-837C-9972F932F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7DDA5-F1BA-4D6B-8869-75028EC85D9D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二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妇科病史及检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天津中医药大学护理学院  高擎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双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80" y="2254320"/>
            <a:ext cx="76024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三合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2050920" y="1879560"/>
            <a:ext cx="4521240" cy="45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直肠－腹部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5" name="Picture 8" descr=""/>
          <p:cNvPicPr/>
          <p:nvPr/>
        </p:nvPicPr>
        <p:blipFill>
          <a:blip r:embed="rId1"/>
          <a:stretch/>
        </p:blipFill>
        <p:spPr>
          <a:xfrm>
            <a:off x="2195640" y="2214720"/>
            <a:ext cx="4714920" cy="40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心理社会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健康感知及医院环境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自我概念形态及应激耐受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价值信念形态的评估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程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bde6fd"/>
                </a:solidFill>
                <a:latin typeface="Verdana"/>
              </a:rPr>
              <a:t>护理评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主要护理诊断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/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合作性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护理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陈述常用妇科检查的目的，方法及注意事项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区分妇科疾病的常见体征及鉴别诊断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．解释妇科患者的采集病史，体格检查及心理－社会状态评估的方法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应用护理程序为妇科疾病患者提供护理服务。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一）病史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病史采集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系统观察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交谈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体格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查阅记录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病史采集内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0" y="2050920"/>
          <a:ext cx="9109080" cy="4403880"/>
        </p:xfrm>
        <a:graphic>
          <a:graphicData uri="http://schemas.openxmlformats.org/drawingml/2006/table">
            <a:tbl>
              <a:tblPr/>
              <a:tblGrid>
                <a:gridCol w="1643040"/>
                <a:gridCol w="7466040"/>
              </a:tblGrid>
              <a:tr h="3463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Calibri"/>
                          <a:ea typeface="宋体"/>
                        </a:rPr>
                        <a:t>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Verdana"/>
                          <a:ea typeface="宋体"/>
                        </a:rPr>
                        <a:t>内容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8ac8de"/>
                    </a:solidFill>
                  </a:tcPr>
                </a:tc>
              </a:tr>
              <a:tr h="5158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一般项目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姓名、年龄、婚姻、籍贯、职业、民族、教育程度、宗教信仰、家庭住址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主诉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入院的主要问题、主要症状、出现的时间和病人的应对方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60012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现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围绕主诉了解发病的时间、发病的原因及可能的诱因、病情发展经过、就医经过、采取的护理措施及效果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月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询问初潮年龄、月经周期、经期持续时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95904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婚育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结婚年龄、婚次、男方健康情况、是否近亲结婚、同居情况、双方性功能、性病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生育情况包括足月产、早产、流产次数以及现存子女数：足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早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流</a:t>
                      </a:r>
                      <a:r>
                        <a:rPr b="1" lang="en-US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-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存；孕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产</a:t>
                      </a:r>
                      <a:r>
                        <a:rPr b="1" lang="zh-CN" sz="1600" spc="-1" strike="noStrike" baseline="-25000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×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既往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既往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  <a:tr h="59868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个人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生活和居住情况、出生地和曾居住地区、个人特殊嗜好、自理程度、生活方式、睡眠、饮食、营养、卫生习惯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aebf3"/>
                    </a:solidFill>
                  </a:tcPr>
                </a:tc>
              </a:tr>
              <a:tr h="345960">
                <a:tc>
                  <a:txBody>
                    <a:bodyPr lIns="68760" rIns="6876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Calibri"/>
                          <a:ea typeface="宋体"/>
                        </a:rPr>
                        <a:t>家族史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46ca6"/>
                          </a:solidFill>
                          <a:latin typeface="Verdana"/>
                          <a:ea typeface="宋体"/>
                        </a:rPr>
                        <a:t>患者的家庭成员包括父母、兄弟、姊妹及子女的健康状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f5f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全身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</a:rPr>
              <a:t>腹部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视诊：形状、有无水肿、瘢痕、妊娠纹、腹壁疝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触诊：腹壁厚度，肝脾肾及腹部压痛，有无包块等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叩诊：鼓音、浊音分布范围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</a:rPr>
              <a:t>听诊：肠鸣音，胎心听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体格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 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盆腔检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外阴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阴道窥器检查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双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三合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50000"/>
              </a:lnSpc>
              <a:spcBef>
                <a:spcPts val="550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直肠</a:t>
            </a:r>
            <a:r>
              <a:rPr b="0" lang="en-US" sz="2200" spc="-1" strike="noStrike">
                <a:solidFill>
                  <a:srgbClr val="046ca6"/>
                </a:solidFill>
                <a:latin typeface="Arial"/>
                <a:ea typeface="宋体"/>
              </a:rPr>
              <a:t>—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腹部诊</a:t>
            </a:r>
            <a:endParaRPr b="0" lang="en-US" sz="2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5076720" y="5373720"/>
            <a:ext cx="142920" cy="21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外阴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29" name="Picture 4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700360" y="2205000"/>
            <a:ext cx="416880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护理评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阴道窥器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684360" y="2349360"/>
            <a:ext cx="807876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8:47:41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